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4775-FC0C-4713-8077-BBB6C372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1D3-07E6-423E-9796-E1196862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61C-C907-4A44-BFEF-9EB10650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94C-1233-41BC-8408-4561FB58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0A9-BCB5-426B-A79D-64BC2946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1BD-33FC-4A7D-A15E-0536BF5C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484-4377-4EB8-B8ED-C3598F30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175-AB10-495C-84CA-20A779E5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1FA-BA41-4FDD-BA46-1A0DF47B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814-2E22-48F3-ADEA-E51D49F6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102-3E69-4EA4-8EFE-E571112E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489-AFBB-403C-8AE3-9E5A2A65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DDC3-C7C6-4FCB-B2DB-0A18DA354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0" y="0"/>
            <a:ext cx="36576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3-30 &amp; 3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Rome Test on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93600" y="1452600"/>
            <a:ext cx="9050400" cy="2585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3-30 &amp;31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temple  that honored all the gods and goddesses of the Roman wor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high, arched structure built to carry water over long dista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the huge stadium where contests were held in R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a Roman athlete called who was usually a slave or prisoner who was forced to fight for the entertainment of the publ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137160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nth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catapult"/>
          <p:cNvPicPr/>
          <p:nvPr/>
        </p:nvPicPr>
        <p:blipFill>
          <a:blip r:embed="rId1"/>
          <a:stretch/>
        </p:blipFill>
        <p:spPr>
          <a:xfrm>
            <a:off x="6477120" y="0"/>
            <a:ext cx="243828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glad_title"/>
          <p:cNvPicPr/>
          <p:nvPr/>
        </p:nvPicPr>
        <p:blipFill>
          <a:blip r:embed="rId2"/>
          <a:stretch/>
        </p:blipFill>
        <p:spPr>
          <a:xfrm>
            <a:off x="108000" y="447372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5" descr="4pix"/>
          <p:cNvPicPr/>
          <p:nvPr/>
        </p:nvPicPr>
        <p:blipFill>
          <a:blip r:embed="rId3"/>
          <a:stretch/>
        </p:blipFill>
        <p:spPr>
          <a:xfrm>
            <a:off x="2938320" y="3333600"/>
            <a:ext cx="3267360" cy="19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9" descr="its_overbot"/>
          <p:cNvPicPr/>
          <p:nvPr/>
        </p:nvPicPr>
        <p:blipFill>
          <a:blip r:embed="rId4"/>
          <a:stretch/>
        </p:blipFill>
        <p:spPr>
          <a:xfrm>
            <a:off x="4952880" y="5334120"/>
            <a:ext cx="419112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1" descr="its_overtopbub"/>
          <p:cNvPicPr/>
          <p:nvPr/>
        </p:nvPicPr>
        <p:blipFill>
          <a:blip r:embed="rId5"/>
          <a:stretch/>
        </p:blipFill>
        <p:spPr>
          <a:xfrm>
            <a:off x="4952880" y="4424400"/>
            <a:ext cx="4191120" cy="909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8"/>
          <p:cNvSpPr/>
          <p:nvPr/>
        </p:nvSpPr>
        <p:spPr>
          <a:xfrm>
            <a:off x="7086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que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7086600" y="3124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lise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708660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la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380880" y="30492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Brain Pop over Pax Romana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i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homeroom t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Latin Questions worksheet.  KEE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Roman Law worksheet.  KEE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 the Rome TEST Review.  KEE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grinningplanet.com/2003/roman-digest/roman-chariot-copyright2.gif"/>
          <p:cNvPicPr/>
          <p:nvPr/>
        </p:nvPicPr>
        <p:blipFill>
          <a:blip r:embed="rId1"/>
          <a:stretch/>
        </p:blipFill>
        <p:spPr>
          <a:xfrm>
            <a:off x="2362320" y="3505320"/>
            <a:ext cx="396216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04920" y="228600"/>
            <a:ext cx="88390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e 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What you should know for the t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questions over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. ch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You get to use it on the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ient Gree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se are the terms you must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h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city-state that excelled in the arts; had the FIRST 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r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military city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er the Gr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spread Greek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ce Empire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imeline came firs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henon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e to Athena in At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se are the terms you must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s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leaders voted on by the Roman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us Caesar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assassinated because he made himself dictator of 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esar Augustus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Roman Emperor—started the Pax Ro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x Romana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peace in the Roman Empire that lasted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n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nguage that the Romans sp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of the History of Rome—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archy, republic,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diator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 or prisoner who was forced to fight for the entertainment of the 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duct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, arched structure built to carry water over long di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theon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e  that honored all the gods and goddesses of the Roman world; (still in use today in R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seum  -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stadium in Rome where contests were h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3:03:49Z</dcterms:created>
  <dc:creator>poweruser</dc:creator>
  <dc:description/>
  <dc:language>en-US</dc:language>
  <cp:lastModifiedBy>poweruser</cp:lastModifiedBy>
  <dcterms:modified xsi:type="dcterms:W3CDTF">2011-03-30T13:13:09Z</dcterms:modified>
  <cp:revision>30</cp:revision>
  <dc:subject/>
  <dc:title>Slide 1</dc:title>
</cp:coreProperties>
</file>